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2F38-342D-4570-BDAB-77C8E620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46DB-53AE-4888-B919-E13126DD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B9B0-1427-43E3-86BD-A098CB70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5531-D9EF-4299-B2EB-50E9F88D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CCB4-5787-4B42-9C30-A3E44BE0E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394F-D9D4-433C-8838-FF72B270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EBF5-548E-4DB9-899C-40B4069A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2775-F9A2-4260-A8C8-2968D4FA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698A-F20C-4595-BF14-AC80447F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E1F1-3EDF-45E0-90CF-5BBA8F8E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17BA-7A75-4680-A2A7-09E3165B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B883-50BB-4CE2-A433-03F7919A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1A72-59B3-4A8B-AFB1-72E6B531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7E5A-4920-44DB-851F-A1EA32F9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3C70-7FB7-40B3-ACF2-995CBD1A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EA7B-A9C6-4FCA-B059-497327A0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B656-52B5-49D2-B8A3-A48AB59A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E22A-AB63-48F9-B5FE-AF04002B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D5A7-FD84-4067-9323-43E0D51D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73A4-4FAE-4D0A-BD66-7B9A6B91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8B60-3871-43DB-9EA3-3D20CCC8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0C58-0BB2-4E40-9DD6-35C47A72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823D-00BF-4F16-B47C-0912E25F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F965-9DE9-4024-A5E5-9D83C990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4A8C-9ABC-496E-9C8C-A8D25FE57A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200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200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-22336"/>
                      </a:moveTo>
                      <a:cubicBezTo>
                        <a:pt x="9670" y="-22336"/>
                        <a:pt x="0" y="-32007"/>
                        <a:pt x="0" y="21600"/>
                      </a:cubicBezTo>
                      <a:cubicBezTo>
                        <a:pt x="0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-22336"/>
                      </a:moveTo>
                      <a:cubicBezTo>
                        <a:pt x="9670" y="-22336"/>
                        <a:pt x="0" y="-32007"/>
                        <a:pt x="0" y="21600"/>
                      </a:cubicBezTo>
                      <a:cubicBezTo>
                        <a:pt x="0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-2233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C049-4C70-4A97-89F2-32ACB651F6B6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ru.wikipedia.org/wiki/24_&#1072;&#1087;&#1088;&#1077;&#1083;&#1103;" TargetMode="External"/><Relationship Id="rId3" Type="http://schemas.openxmlformats.org/officeDocument/2006/relationships/hyperlink" Target="http://ru.wikipedia.org/wiki/2003_&#1075;&#1086;&#1076;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6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FA02-DB55-49BB-994D-FC36951E79B5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Символика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Свердловской области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и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Нижней Салд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741400" y="1228320"/>
            <a:ext cx="153720" cy="8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6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50F6-9C4B-43A8-81FA-A27CFBD4E9F1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581280" y="3657600"/>
            <a:ext cx="3733920" cy="2482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1371240" y="1523880"/>
            <a:ext cx="12852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676520" y="152388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Флаг утверждён </a:t>
            </a:r>
            <a:r>
              <a:rPr b="1" lang="ru-RU" sz="28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24 апреля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2003 года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как флаг муниципального образования «Город Нижняя Салда»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2" name="WordArt 12"/>
          <p:cNvSpPr txBox="1"/>
          <p:nvPr/>
        </p:nvSpPr>
        <p:spPr>
          <a:xfrm>
            <a:off x="2133720" y="380880"/>
            <a:ext cx="5410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лаг Нижней Салд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447560" y="685440"/>
            <a:ext cx="7543800" cy="55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Разработала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Углова Наталья Юрьевна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Учитель начальных классов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ГБОУ СО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«Верхнесалдинская школа»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2020год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4" name="Номер слайда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B356-C67B-4BC9-9498-C4850612C532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AAC4-0353-4421-9F6E-00C32DCCB39C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6" name="WordArt 6"/>
          <p:cNvSpPr txBox="1"/>
          <p:nvPr/>
        </p:nvSpPr>
        <p:spPr>
          <a:xfrm rot="19963800">
            <a:off x="1593720" y="1660680"/>
            <a:ext cx="7391520" cy="24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вердловская область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7" name="Picture 7" descr="sverdlo1"/>
          <p:cNvPicPr/>
          <p:nvPr/>
        </p:nvPicPr>
        <p:blipFill>
          <a:blip r:embed="rId1"/>
          <a:stretch/>
        </p:blipFill>
        <p:spPr>
          <a:xfrm>
            <a:off x="1752480" y="457200"/>
            <a:ext cx="2133720" cy="1581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sverdlm"/>
          <p:cNvPicPr/>
          <p:nvPr/>
        </p:nvPicPr>
        <p:blipFill>
          <a:blip r:embed="rId2"/>
          <a:stretch/>
        </p:blipFill>
        <p:spPr>
          <a:xfrm>
            <a:off x="6781680" y="3962520"/>
            <a:ext cx="1265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8EAD-1A16-4FCE-BBE3-31B4B680BFD8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Picture 21" descr="p3"/>
          <p:cNvPicPr/>
          <p:nvPr/>
        </p:nvPicPr>
        <p:blipFill>
          <a:blip r:embed="rId1"/>
          <a:stretch/>
        </p:blipFill>
        <p:spPr>
          <a:xfrm>
            <a:off x="3048120" y="1600200"/>
            <a:ext cx="4552920" cy="2095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2" descr="sss"/>
          <p:cNvPicPr/>
          <p:nvPr/>
        </p:nvPicPr>
        <p:blipFill>
          <a:blip r:embed="rId2"/>
          <a:stretch/>
        </p:blipFill>
        <p:spPr>
          <a:xfrm>
            <a:off x="1981080" y="4114800"/>
            <a:ext cx="2381400" cy="2095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3" descr="p5"/>
          <p:cNvPicPr/>
          <p:nvPr/>
        </p:nvPicPr>
        <p:blipFill>
          <a:blip r:embed="rId3"/>
          <a:stretch/>
        </p:blipFill>
        <p:spPr>
          <a:xfrm>
            <a:off x="6858000" y="4191120"/>
            <a:ext cx="1809720" cy="2095560"/>
          </a:xfrm>
          <a:prstGeom prst="rect">
            <a:avLst/>
          </a:prstGeom>
          <a:ln w="0">
            <a:noFill/>
          </a:ln>
        </p:spPr>
      </p:pic>
      <p:sp>
        <p:nvSpPr>
          <p:cNvPr id="173" name="WordArt 33"/>
          <p:cNvSpPr txBox="1"/>
          <p:nvPr/>
        </p:nvSpPr>
        <p:spPr>
          <a:xfrm>
            <a:off x="1905120" y="533520"/>
            <a:ext cx="67816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арианты проектов герб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5965-1FD6-4738-B9F9-2BF45B85D6FF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5" name="Picture 4" descr="sverdlo1"/>
          <p:cNvPicPr/>
          <p:nvPr/>
        </p:nvPicPr>
        <p:blipFill>
          <a:blip r:embed="rId1"/>
          <a:stretch/>
        </p:blipFill>
        <p:spPr>
          <a:xfrm>
            <a:off x="1676520" y="2286000"/>
            <a:ext cx="4495680" cy="3330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sverdlm"/>
          <p:cNvPicPr/>
          <p:nvPr/>
        </p:nvPicPr>
        <p:blipFill>
          <a:blip r:embed="rId2"/>
          <a:stretch/>
        </p:blipFill>
        <p:spPr>
          <a:xfrm>
            <a:off x="6858000" y="2209680"/>
            <a:ext cx="1981080" cy="3581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6"/>
          <p:cNvSpPr/>
          <p:nvPr/>
        </p:nvSpPr>
        <p:spPr>
          <a:xfrm>
            <a:off x="2593080" y="304200"/>
            <a:ext cx="622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00"/>
                </a:solidFill>
                <a:latin typeface="Times New Roman"/>
              </a:rPr>
              <a:t>герб свердловской области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2668680" y="1447200"/>
            <a:ext cx="23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большой герб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6860160" y="1493280"/>
            <a:ext cx="19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малый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 герб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3531-DF3A-4786-A996-C6744B219A44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3324240" cy="2208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2"/>
          <a:stretch/>
        </p:blipFill>
        <p:spPr>
          <a:xfrm>
            <a:off x="5410080" y="3733920"/>
            <a:ext cx="3353040" cy="2227320"/>
          </a:xfrm>
          <a:prstGeom prst="rect">
            <a:avLst/>
          </a:prstGeom>
          <a:ln w="0">
            <a:noFill/>
          </a:ln>
        </p:spPr>
      </p:pic>
      <p:sp>
        <p:nvSpPr>
          <p:cNvPr id="183" name="WordArt 6"/>
          <p:cNvSpPr txBox="1"/>
          <p:nvPr/>
        </p:nvSpPr>
        <p:spPr>
          <a:xfrm>
            <a:off x="1905120" y="838080"/>
            <a:ext cx="6324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флаги до 2005 год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AD75-73C0-4211-9DE2-9A7EF7DFBBFB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WordArt 4"/>
          <p:cNvSpPr txBox="1"/>
          <p:nvPr/>
        </p:nvSpPr>
        <p:spPr>
          <a:xfrm>
            <a:off x="1600200" y="304920"/>
            <a:ext cx="73915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йствующий флаг с 2005 г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510552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B25E-4B91-4AC2-A64F-F6C81AA8B924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WordArt 5"/>
          <p:cNvSpPr txBox="1"/>
          <p:nvPr/>
        </p:nvSpPr>
        <p:spPr>
          <a:xfrm rot="20466600">
            <a:off x="1755720" y="1841040"/>
            <a:ext cx="7010280" cy="302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61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ижняя салд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61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9" name="Picture 6" descr="nizsald"/>
          <p:cNvPicPr/>
          <p:nvPr/>
        </p:nvPicPr>
        <p:blipFill>
          <a:blip r:embed="rId1"/>
          <a:stretch/>
        </p:blipFill>
        <p:spPr>
          <a:xfrm>
            <a:off x="2286000" y="533520"/>
            <a:ext cx="1314360" cy="2095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"/>
          <p:cNvPicPr/>
          <p:nvPr/>
        </p:nvPicPr>
        <p:blipFill>
          <a:blip r:embed="rId2"/>
          <a:stretch/>
        </p:blipFill>
        <p:spPr>
          <a:xfrm>
            <a:off x="6248520" y="4495680"/>
            <a:ext cx="1904760" cy="1266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54A1-FE93-402F-A416-0DBAF70988F6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3487680" cy="3962520"/>
          </a:xfrm>
          <a:prstGeom prst="rect">
            <a:avLst/>
          </a:prstGeom>
          <a:ln w="0">
            <a:noFill/>
          </a:ln>
        </p:spPr>
      </p:pic>
      <p:sp>
        <p:nvSpPr>
          <p:cNvPr id="193" name="WordArt 8"/>
          <p:cNvSpPr txBox="1"/>
          <p:nvPr/>
        </p:nvSpPr>
        <p:spPr>
          <a:xfrm>
            <a:off x="1542960" y="304920"/>
            <a:ext cx="76010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варительный герб Нижней Салды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2D16-1727-4661-9B2F-3F9A155230F4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5" name="Picture 4" descr="nizhsald"/>
          <p:cNvPicPr/>
          <p:nvPr/>
        </p:nvPicPr>
        <p:blipFill>
          <a:blip r:embed="rId1"/>
          <a:stretch/>
        </p:blipFill>
        <p:spPr>
          <a:xfrm>
            <a:off x="1981080" y="380880"/>
            <a:ext cx="1743120" cy="2819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nizsald"/>
          <p:cNvPicPr/>
          <p:nvPr/>
        </p:nvPicPr>
        <p:blipFill>
          <a:blip r:embed="rId2"/>
          <a:stretch/>
        </p:blipFill>
        <p:spPr>
          <a:xfrm>
            <a:off x="1981080" y="3809880"/>
            <a:ext cx="1720800" cy="27432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266720" y="380880"/>
            <a:ext cx="4876920" cy="609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Герб города Нижняя Салда Свердловской области утвержден Решением Думы МО "город Нижняя Салда" от 24 апреля 2003 №90/2 "О символике (гербе и флаге) муниципального образования город Нижняя Салда"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осле получения муниципальным образованием статуса городского округа герб используется с рекомендованной для городских округов короной (золотой стенчатой с пятью зубцами)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8-31T07:14:3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